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B2E13E-C4FE-4CDD-BE92-884748F6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E96570-A052-4120-81B3-0140AA411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4F8A4D-D058-40CC-83E4-AFEA7853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414055-8F2D-4A4F-B3AE-6DF2252C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n use Similar to IS-A within ontology, but do not inheri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FF6B96-BA17-4CA3-A822-A35CDD4CA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0FD7D5-42F2-4824-8864-C52828B2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E4F6BA-D714-4C15-B6F1-9D0A37B7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9B68CC-21C2-4E4C-AC01-1973E78C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93B1B2-C6D1-4BDA-B5F6-8B926423D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5AE94B-E915-457B-966B-AD30A88C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167CB5-E4B4-4768-BD56-1D6750E4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ustomers can assimilate at most one “big thing”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oriented architectures have been anointed, and suck the oxygen from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oom for Sem-Web in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528E90-49FA-4EF3-97F6-C41B095A3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4101E5-EF67-4D8C-9AC7-68D9DA707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are mapped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bject correspondences,(Match, Derive attrib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 instance-set mapping  (M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B48F6B-D948-4FA1-8C54-049EA9A9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E52D7A-6E7F-4D81-9BEA-513ACAD7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5635D2-A176-47F2-BD59-C893EDB4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(e.g. Castano et. al., TO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and display convenience mea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mewhe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ystem, you’ll have something record-oriented. So you need to sell that a second formalism is worth introdu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509014-1E26-4ADD-A160-F762FE057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 Castano et. al., T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2887-6CB4-4DCE-9C22-579A4D4B3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DE4A-9E63-4EB8-B557-CD68FBD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EE3E-66E9-489B-82DF-DCB3EFB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EE79-65CC-4B55-A855-28C823990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5AF2D-35A5-4F1B-BAFE-B85C2BE7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2219-CAE1-417A-A436-DA563F4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0992-B47C-4041-B915-AC525FBA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E264-705B-4EF1-8F04-44748DB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B199-CFFB-48F3-8B46-8133CF6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8053-0B4F-4BC7-A801-DF5AAD4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FE8C9-0A81-4553-BC5E-22E20D55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2626-BC3E-482D-ACBE-AFBD1F1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AEB44-6FCC-4CAB-B31B-349A74A3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E0802-D7F1-4B4C-AA34-6D34B46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F94B1-B423-4F8F-A78D-0A1C13D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BEED9-B9A8-4A41-9B59-5D9B77F3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7A297-3161-46AB-975D-BE3FD351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6707-C0B4-4C13-8180-F304E7CB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257C-2D9C-4AFE-BCC0-DFF6C2A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7146-C17C-4501-950C-60521B96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DBCF-7A3D-4AC7-A5CE-A7B88DD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EBA1-769A-47B9-B66D-A12721B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098E-8566-404E-9495-426EDBC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377D-95C9-4771-83DA-542DE5B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A3A-70CE-4BA6-B936-9CCF7DE0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533520" y="1600200"/>
            <a:ext cx="81928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8043840" y="631836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6493680" y="6513480"/>
            <a:ext cx="25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The MITRE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C99-581F-4659-A464-E00901F3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A2F3-2B1B-4045-ADFB-6E37372C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sting typical SW and DB approaches to semantic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n Ros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97D-E9DE-494E-A817-379E35CDD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002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WL has both theory and tool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ecute by inference eng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t tuned to query processor 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22093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Homegrown lo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Even simple Datalogs won’t inter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200"/>
            </a:b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appings are in popular query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Efficien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: parallel, query optim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Deployable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e.g., change 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00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                            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0ED-F084-45C2-B752-C9600A0C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Usable_f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l’ships use formalism very similar to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S-A is “native”, i.e., part of the regula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-A logically merges the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WL is insufficient,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ule languages over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{informal or formal logic assrtns.} or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ore powerful (data exchange logic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ology: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 TGD =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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  <a:cs typeface="Arial"/>
              </a:rPr>
              <a:t>ש</a:t>
            </a:r>
            <a:r>
              <a:rPr b="0" lang="ar-SA" sz="2000" spc="-1" strike="noStrike">
                <a:solidFill>
                  <a:srgbClr val="ff0066"/>
                </a:solidFill>
                <a:latin typeface="Arial"/>
                <a:cs typeface="Arial"/>
              </a:rPr>
              <a:t>څ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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View defns are big: hard to edit (and to re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F83-9198-4320-925A-4BBBA757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ever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engine infer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s this tolerable? Why (no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2285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ined from user viewpoint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rd to learn or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scards tuples unnecessar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0DA5-6202-4DB8-8847-08996DF8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le for”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formalism can be used to describe either systems or domai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ble_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rectional, to relate concepts that are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_for does not force inheritance – one system may have fewer attrib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ey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Formalis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tandard construct for “can be used for” super-property ≈ tuple-generating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rect or via neutral model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and match, share info and infer ove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Execution environment: DBM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, query optimization,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ilingual (SQL, XML), add RDF when it reaches critical mass ($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5A9-2C16-4D3C-BC90-C5F9FF1BD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Alignment” research is hard t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picuous lack of widely-used products, from eith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ers/matchers automat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ork of an integration engineer, but c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+%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lve a major “customer”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a robust mediator, there aint no customer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879C-6461-49E0-8D11-801BAD0D3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685800" y="5029200"/>
            <a:ext cx="807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Touch the end users,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one outside the IT d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 in their work as schemas ev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de for end users 80%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unities addressing simila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ndards, cleaner formalism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e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gmatics and richer suites on the d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ly formalism independent, could be imported, esp. “Instant grat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5329-24FB-485F-B57B-EECB65D93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versions of a comm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matching ≈ Align classes/properties in ont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a-models, similar core proble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eith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omai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chemas (for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omain model and one sche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 Identify the relationship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instance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, IS-A, “usable for” seem the main ones helpful to a “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y need to transform to make things ma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A893-CFDC-4C44-A6C5-D7ADEA23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des have elaps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base side:  Survey of schema matching research (Batini et. al., 198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schema may be constructed from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sioned end product is a SQL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is on “where can we find clues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m-Web precursors:  ISI, MCC – domain model (in logic) plus articulation axi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within the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ing-based. Each project had its own formal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Obvious question: Why no robust products ye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690-5106-4BDA-9DC9-43931A1B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ping ahead to my conclusions (SW competi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nterprise systems today, lean toward DB and XML tool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9900"/>
                </a:solidFill>
                <a:latin typeface="Arial"/>
              </a:rPr>
              <a:t>unless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 you really exploit ontologies’ greater expressive power (value taxonomies, IS-A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uring sem-web environments will (by definition) import knowledge from big data integration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8A4-646A-4D41-A33C-4E53E7B0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4FB-9C69-440B-830B-39A42332A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spondence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form approaches (can be multi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19320" y="2743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467480" y="2666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905120" y="3200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295280" y="5029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543800" y="4952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962520" y="510552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98108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5627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6D3D-1350-447F-A0BA-9377BF8D1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work – not associated with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o use when creating? describ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loud"/>
          <p:cNvSpPr/>
          <p:nvPr/>
        </p:nvSpPr>
        <p:spPr>
          <a:xfrm>
            <a:off x="3276720" y="32004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800600" y="464832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114800" y="38862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loud"/>
          <p:cNvSpPr/>
          <p:nvPr/>
        </p:nvSpPr>
        <p:spPr>
          <a:xfrm>
            <a:off x="3276720" y="495288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800600" y="34290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5715000" y="4343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505320" y="411480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376-BDEF-4A13-8432-21410E6D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 (e.g.., P2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eutral intermediary to connect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4191120" y="464832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191120" y="3505320"/>
            <a:ext cx="609480" cy="4572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105520" y="44197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429000" y="4114800"/>
            <a:ext cx="76320" cy="99072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276720" y="32767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191120" y="3962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276720" y="5105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95F-7AC8-4DE8-98B8-A5AC4B27C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atomic concept (object or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chunks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easy to relate &amp;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bust for multiple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1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relation or tre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cord is a good chunk for storage 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ts are present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ystem or a physical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CEE-4A66-4AA1-B915-E10E7DE64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via neutral def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use is easie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ll administrators  understand “foreign” or abstract concept def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relationships and flows betwee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stant gratification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funding is usually for an applic’n, not for integrat’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fferences i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eal dat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lead to improv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Tools examine th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billion indust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ature-rich, scalabl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8:24:07Z</dcterms:created>
  <dc:creator>Arnon Rosenthal, Len Seligman</dc:creator>
  <dc:description/>
  <dc:language>en-US</dc:language>
  <cp:lastModifiedBy>Arnon Rosenthal</cp:lastModifiedBy>
  <cp:lastPrinted>2003-02-26T12:46:23Z</cp:lastPrinted>
  <dcterms:modified xsi:type="dcterms:W3CDTF">2008-06-10T22:42:16Z</dcterms:modified>
  <cp:revision>146</cp:revision>
  <dc:subject/>
  <dc:title>Pragmatics of Applying (Data Exchange)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5303894</vt:r8>
  </property>
  <property fmtid="{D5CDD505-2E9C-101B-9397-08002B2CF9AE}" pid="3" name="_AuthorEmail">
    <vt:lpwstr>arnie@mitre.org</vt:lpwstr>
  </property>
  <property fmtid="{D5CDD505-2E9C-101B-9397-08002B2CF9AE}" pid="4" name="_AuthorEmailDisplayName">
    <vt:lpwstr>Rosenthal, Arnon S.</vt:lpwstr>
  </property>
  <property fmtid="{D5CDD505-2E9C-101B-9397-08002B2CF9AE}" pid="5" name="_EmailSubject">
    <vt:lpwstr>presentations from Cambridge SW meeting?</vt:lpwstr>
  </property>
  <property fmtid="{D5CDD505-2E9C-101B-9397-08002B2CF9AE}" pid="6" name="_NewReviewCycle">
    <vt:lpwstr/>
  </property>
</Properties>
</file>